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98031"/>
        <c:axId val="39379498"/>
      </c:barChart>
      <c:catAx>
        <c:axId val="97398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79498"/>
        <c:crosses val="autoZero"/>
        <c:auto val="1"/>
        <c:lblAlgn val="ctr"/>
        <c:lblOffset val="100"/>
        <c:noMultiLvlLbl val="0"/>
      </c:catAx>
      <c:valAx>
        <c:axId val="39379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98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C72-EAF3-45B4-A1E4-D6F80EEC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ACF-5010-478C-B094-0C77DFAC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51D-AAF1-4E6C-B1D8-70EF3696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80C-5911-4B41-A4DA-B6C2B706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B5F-71B1-44CA-87F9-C4460F85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278-92C1-4C91-A613-9243BD32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842-C525-4948-8928-E2D8C940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8BC-63BE-4CC7-B426-40CC1E48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077-CE31-4DAA-B461-DA01B31C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7E3-AE20-4499-A4B9-F09F7066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C06-98D7-4842-A611-22269905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BFF-CEFD-4EFD-9440-BE676806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344EB-66EA-447A-ADCB-E005765B67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