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49028"/>
        <c:axId val="40854659"/>
      </c:barChart>
      <c:catAx>
        <c:axId val="166490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54659"/>
        <c:crosses val="autoZero"/>
        <c:auto val="1"/>
        <c:lblAlgn val="ctr"/>
        <c:lblOffset val="100"/>
        <c:noMultiLvlLbl val="0"/>
      </c:catAx>
      <c:valAx>
        <c:axId val="40854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490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3AA-525C-4763-B4CC-EDC6960B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7AB-396C-4BD8-ABD2-3F613325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86D-AE43-4337-A5A2-EE1B764A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A66-E5FB-4BD3-84B1-936E0DE1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597-C7E0-482B-8C3C-23AB303A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E02-05E8-490B-A8D4-53735A52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CA5-2255-470A-821D-352CAA39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FB0-86B6-416B-95E7-99C533D8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565-E33C-46A1-8902-6005EEC6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052-A4E5-4CB4-B114-18AC2F00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AE3-8DA8-4B12-AE91-305FAC3D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68F-1DEF-489D-B976-D61B4F4B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12733-1844-4E12-997C-1FABB9BFEA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