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6156"/>
        <c:axId val="22405027"/>
      </c:barChart>
      <c:catAx>
        <c:axId val="68756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05027"/>
        <c:crosses val="autoZero"/>
        <c:auto val="1"/>
        <c:lblAlgn val="ctr"/>
        <c:lblOffset val="100"/>
        <c:noMultiLvlLbl val="0"/>
      </c:catAx>
      <c:valAx>
        <c:axId val="224050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6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0C0-EA93-4DE2-8A51-2BB8D60B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FCC-6E44-4968-8258-B16ABAF6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BF2-8626-4EB3-9BCC-A7CFE8A07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A90-CA4A-4701-AB05-F4846317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99F-2F54-48C4-A84F-B19DCF1F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C03-3E61-4F46-B262-7287EE51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36F1-E1C0-4B26-8DB0-36177C5F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81D0-9766-4DFD-B5B6-942F65D5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092-576C-4E13-88DE-5C1BD118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F2EE-A775-44B5-9F9D-854BFB5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626-63B9-41D9-940C-30C16C1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C45-7363-4F2A-8FD9-426609EC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4FB20-103D-4958-9541-B20FA340D3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